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7184-ADD9-4866-B655-5AD63D3458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CDC-923D-48E2-8B3C-2F393712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9215-C316-4279-9690-3486DC34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CF4-61B4-471A-900E-AD7213FB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A72-DF1A-4EE7-BB75-B3CFAB77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CBAB-91D6-416B-9703-501C6F1B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A3BE-1421-4DE3-8530-B3226156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CA12-8AF1-4A64-B0B5-1D2693F6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7956-6896-4986-8451-244DD979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D565-8171-42E9-B2DD-E76DF789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6908-E32E-405A-B44A-2A749E99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3423-D34E-4835-AA01-A231777F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033-8EB0-4451-864B-CEEB8714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442B-857C-4BE7-8DC3-E9B26F1E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CDBE-A058-4039-A98F-E3A18650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DA46-AC2B-4142-A237-120D3909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2B49-B940-4818-9AD9-060E53A7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3349-9FC9-4537-9C19-CE4FA468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6B4-6706-4782-865E-56906535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950-8832-46B2-AF63-6C0DE540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0B21-39D8-43B5-8D01-BE12DE3A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15D5-06E6-4A7D-B888-443A98CA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2ADF-E50D-4359-84D9-1A9526CA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660-2C24-4565-BE7B-F73C9FAD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58D-56D6-443D-B3BB-11A50637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A699-3044-40D4-87F6-CEA07577A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D637-5641-4012-844B-CB0E81F55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18288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371600" y="228600"/>
            <a:ext cx="7315200" cy="57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you must know what the symbols mean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0"/>
            <a:ext cx="7467480" cy="70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2nd – Find the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90720" y="0"/>
            <a:ext cx="8153280" cy="66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ll you need to do is put the two togethe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//U //U //U = spondaic tr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ow see if you can guess the following…….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Use your notes. </a:t>
            </a: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You know I’ll try to trick you!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4:05:32Z</dcterms:created>
  <dc:creator>Airline High School</dc:creator>
  <dc:description/>
  <dc:language>en-US</dc:language>
  <cp:lastModifiedBy>RomaK</cp:lastModifiedBy>
  <dcterms:modified xsi:type="dcterms:W3CDTF">2015-09-04T10:38:14Z</dcterms:modified>
  <cp:revision>13</cp:revision>
  <dc:subject/>
  <dc:title>rhyme and meter</dc:title>
</cp:coreProperties>
</file>